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5A486-570A-42F7-A855-A229544E4F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9DA42-C6D1-456B-8341-6499A21EB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8EA-8EB0-4246-AF8A-E62BBC7C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F7E-4A4B-454C-A81A-7A765634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B8A-4591-4734-8DF7-BACA1FE4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7FF-2CD2-4B1B-8C9A-A48E49AC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FEC3-9873-4F35-B8A2-B36FF90A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B77F-CD29-4259-869F-142375ED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537D-2267-428A-8F87-3F78ED87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67C6-A317-402B-9C1B-EA99A6FF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A0F1-8E42-45EA-90FD-5EA24F1D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F0D5-2154-4696-AD12-CE1A76BB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642E-130F-4EC7-888A-9C373D7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0B7-68EE-444A-A584-B978229D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4413-F8CC-4F1E-AD6C-B30ADF3D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E3DA-E677-4DDE-986E-05D9609B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F9CC-4EE2-4D18-93A4-46BF0B6E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B10F-EACE-448C-8B82-E7988494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2E1F-A0D3-48B2-8712-80921C57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372-F788-4C8D-B735-4B577AA8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146-08FC-4B2F-87E9-AB1A2A3D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150-3677-4961-92B5-20856C6B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339-81ED-4987-AE4B-E175132B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0B1-E54B-4BEE-96C2-22B620E8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A7B-F73B-49AF-9983-8FB74FF6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C07-ADD6-4728-977B-F46CD969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86F39-81AB-4CB4-9EBD-417ECB492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431D0-255A-44E1-9792-E87CFA3B7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7-01-26T10:14:13Z</dcterms:modified>
  <cp:revision>20</cp:revision>
  <dc:subject/>
  <dc:title>How are images of the Sun taken?</dc:title>
</cp:coreProperties>
</file>